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6746"/>
        <c:axId val="66049296"/>
      </c:barChart>
      <c:catAx>
        <c:axId val="1316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49296"/>
        <c:crosses val="autoZero"/>
        <c:auto val="1"/>
        <c:lblAlgn val="ctr"/>
        <c:lblOffset val="100"/>
        <c:noMultiLvlLbl val="0"/>
      </c:catAx>
      <c:valAx>
        <c:axId val="66049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6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B70-7BF5-4129-AF8B-720DB3CD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EEE-8C66-4713-8549-F658F954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363-8A53-48FB-BDE4-5FE919E3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136-70C9-4EEB-A925-20014CE3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92A-F4B9-46A4-8D9C-E6EB8F2F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755-4DD0-4D26-A76B-36CFFFC4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1C3-E62C-48A7-AA94-0161F9CF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6CC-C454-4477-8FA0-C494412A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185-43CC-4415-AF5B-127FB047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A66-02BC-44FC-961D-796725C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B68-589E-4CEE-8E74-C848995C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0B3-C872-44F2-BF14-9E46FDBE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556F6-7682-447D-82EF-0DE9F05BC9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