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69653"/>
        <c:axId val="40128544"/>
      </c:barChart>
      <c:catAx>
        <c:axId val="65696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128544"/>
        <c:crosses val="autoZero"/>
        <c:auto val="1"/>
        <c:lblAlgn val="ctr"/>
        <c:lblOffset val="100"/>
        <c:noMultiLvlLbl val="0"/>
      </c:catAx>
      <c:valAx>
        <c:axId val="401285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696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FE89-9742-4967-ACD6-F2399FEA0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0E87-2FBA-4390-AFD7-106729AA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13B7-FD50-42F2-A277-C9010E5B2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E015-511F-47C1-89DC-CA1ED6522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3F29-8F62-48A4-AAED-D4F29A81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BAC7-1A5D-4486-A1EC-13448220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FBF6-72AF-4EAF-8882-C60047A1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26FC-DBA1-4D93-AD75-F9DF1DF6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1B2A-D33E-4960-A117-CBAF8766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D5CD-ABE6-4CF8-AE60-F7C0F5EE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6ACE-9E69-4200-B2DE-F2C415CB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30FF-499C-4557-A0D6-7D5745C0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9F0A8F-D2EC-4C1A-A122-AFF018CB0E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