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62760"/>
        <c:axId val="15904809"/>
      </c:barChart>
      <c:catAx>
        <c:axId val="98662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04809"/>
        <c:crosses val="autoZero"/>
        <c:auto val="1"/>
        <c:lblAlgn val="ctr"/>
        <c:lblOffset val="100"/>
        <c:noMultiLvlLbl val="0"/>
      </c:catAx>
      <c:valAx>
        <c:axId val="15904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62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C6E-4EFA-42A8-920D-9D478AA3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B79-1082-4A0B-B4CB-81011623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A5E-8E98-4E99-8024-56B2FAAC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E4B-841F-4231-ACE1-6B295C88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D3F-70C4-4AD3-8578-71DC3FD8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5C8-EFE5-460C-97E7-B4A5D9C4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DB1-8E97-4D5B-AB68-4146B8F5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04D-DF70-4326-9319-E64A69A0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3DD-6B78-4CAF-9CBA-A2D29D5F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7B6-3BBF-4821-8538-5E37A8BF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F72-80D2-43BA-B1F0-7E3460E4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505-95E7-483D-8BA8-FEEDD6ED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D4774-A44E-43F2-B554-FC79D10A3A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