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89886"/>
        <c:axId val="3900958"/>
      </c:barChart>
      <c:catAx>
        <c:axId val="39589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0958"/>
        <c:crosses val="autoZero"/>
        <c:auto val="1"/>
        <c:lblAlgn val="ctr"/>
        <c:lblOffset val="100"/>
        <c:noMultiLvlLbl val="0"/>
      </c:catAx>
      <c:valAx>
        <c:axId val="3900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89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639-600B-4457-8350-6F3F22B0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52D-6F93-47FB-92F9-7EC7800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029-FD8D-47C8-BAF0-C60A1AAE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BFB-992F-4296-8A10-740F3D5C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919-60B8-48C4-B438-B1E87142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3A7-4CF3-4396-BBF0-791F2EA2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90A-134B-4A8B-9E35-6C85556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E11-0600-43FA-8CBA-47FDA81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803-C968-4147-8DEC-FEDB277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4BD-E92C-44DD-9085-A8B645D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C4A-47F1-4F46-A75E-9250F5C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DE0-56E3-4C09-808F-DC572AD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2BAF5-A215-40AC-B0AC-4732455A8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