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08745"/>
        <c:axId val="40524943"/>
      </c:barChart>
      <c:catAx>
        <c:axId val="24808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24943"/>
        <c:crosses val="autoZero"/>
        <c:auto val="1"/>
        <c:lblAlgn val="ctr"/>
        <c:lblOffset val="100"/>
        <c:noMultiLvlLbl val="0"/>
      </c:catAx>
      <c:valAx>
        <c:axId val="40524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08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177-16FE-452D-89B4-9A92E530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8F8-BFD9-4577-A880-F0D9188E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06C-FC3D-4B91-8FF4-54A1B07B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A50-6D81-4AFF-AF46-C8DB6470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715-5B2F-4374-8508-8AB887D7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918-2D1C-4C1F-B808-E2F26286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8A0-C477-4ED4-BE8B-0DB74129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0DA-5816-4FEF-A278-581B91C0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FEC-360C-42C9-A4F5-6328836A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E77-5A96-446E-93D7-53580466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7E8-34CE-4E06-B08F-B73CC6A2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FB5-E471-434E-8D8C-D6A994DA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5CAD9-891B-4F9E-9BE8-9ABA16FDF3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