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00524"/>
        <c:axId val="27944608"/>
      </c:barChart>
      <c:catAx>
        <c:axId val="66000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44608"/>
        <c:crosses val="autoZero"/>
        <c:auto val="1"/>
        <c:lblAlgn val="ctr"/>
        <c:lblOffset val="100"/>
        <c:noMultiLvlLbl val="0"/>
      </c:catAx>
      <c:valAx>
        <c:axId val="27944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00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578-9DC8-4BA4-81FF-759A9325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BAB-397B-4416-B45A-A24EF441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F1A-1E82-4D34-AB60-9D04F411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24F-1331-41E0-86B2-4756B932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134-B4A6-47F6-8B0E-11775D0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3E0-3D3A-49F9-B101-A3BDE6E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1BB-2389-4027-9BE7-366FEAFD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433-FC6C-4628-A0A2-84133A76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08F-1872-4787-86C7-8233DDFD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02C-693C-4C8F-AAF8-C87A3B33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AD3-DF4C-4585-87C0-D434D371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B6D-1550-45FC-B95A-686B6699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68DB9-B9BF-499C-B78A-93C29BBDCB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