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2787"/>
        <c:axId val="96214990"/>
      </c:barChart>
      <c:catAx>
        <c:axId val="20982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4990"/>
        <c:crosses val="autoZero"/>
        <c:auto val="1"/>
        <c:lblAlgn val="ctr"/>
        <c:lblOffset val="100"/>
        <c:noMultiLvlLbl val="0"/>
      </c:catAx>
      <c:valAx>
        <c:axId val="96214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2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18C-0583-47EC-BC79-0F45B55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5DA-5836-4202-8ECE-DA56AC5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482-AE96-4365-A60A-D8190726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54D-4C99-4562-A7AA-ACB4BB7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3FE-1E06-422E-889B-DAADD58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564-B7D6-4F93-B645-1FAB0C5E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2CB-5D84-4FEF-83F1-2920EC9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D44-28FA-4CCD-B6DB-2B790DF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CC1-F22E-45D4-96A1-2ED423C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050-763A-49AD-A247-3D70BD5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91E-E78D-4F0E-96B4-C1B0E65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9D2-F607-4695-8B03-DD6EDC0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07D91-0853-49E8-9E49-E211B2840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